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18C-BFDE-4C4E-B001-F9A866E1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6A9-1763-467E-A618-6BD6045C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F5E-94E5-4BA0-B7F3-D6CF0BCC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BD2-2F6C-4DEB-9823-9639EE0C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3172-B4B6-4880-9B13-17400345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0C56-C3F3-4D94-AD70-F55F13FA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56DC-F7BC-4CC7-886E-AE611CBB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2D57-6571-46A0-B6E3-CCC865BA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0035-15B1-47D0-94E7-DBA61081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8765-5FC5-444D-8CC2-34E569BB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2021-7F14-4ACD-A56C-2C52C719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213-D061-4A20-AE90-C80522B8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E563-5679-4550-AB87-BAC5F99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BA4B-3184-48BE-B256-42DBA319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81A5-2B11-4C36-BFAA-25AD0693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7D14-0858-4925-B1CE-B020578E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E01F-6FA0-406B-AD4F-6648BB14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2D7-A492-4789-A2C4-99414170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A46-73F2-407C-8317-8953E28D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468-D2A8-402A-A1F1-567511A0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17D-042C-44B1-916E-E4F113DF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928-C6BD-4CF0-A056-43EFD75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B49-F185-4A6C-9903-81F2FB32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028-9655-45F1-8B49-E78AEED9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FBDE-3F09-453C-BF65-932899A22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8EE6-E69C-42A0-8BA7-EFFFC49D6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Animal Adoption</a:t>
            </a:r>
            <a:br>
              <a:rPr sz="41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ow to write a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research question</a:t>
            </a:r>
            <a:endParaRPr b="0" i="1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yan Schilb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ank you for your time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7815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ar Zookeeper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am please to inform you that your zoo has been choose to be the recipient of a new animal donation.  Mr. and Mrs. Gates are very excited to be adding a sea otter to your zoo.  They have already ordered the animal to transported to you zoo.  Next week, you will be receiving the new addition.  I hope you can prepare an exhibit to house the animal in tim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ank you and good luck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r. Larry He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Build background knowledg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gin a class discussion building background knowledge about zoo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hey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hey 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n exhibi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exhibit are designed the way they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14065" t="33381" r="15659" b="25004"/>
          <a:stretch/>
        </p:blipFill>
        <p:spPr>
          <a:xfrm>
            <a:off x="917640" y="2898720"/>
            <a:ext cx="6854760" cy="30448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troduce the proble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 each student their adoption c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5452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Jenkins v2.0"/>
              </a:rPr>
              <a:t>hy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fine the task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k students what they need to do in order solve the probl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 them to the idea of research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fore they can start they need to know what they are going to resear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rite a research ques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three non-examples to develop criteria of what makes a good research ques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ach students how to fix questions that do not fit the criter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ach students how to self-assess their question after developing 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essme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udents create 1 to 3 questions they need to research in order to solve the problem of creating an exhibit for their anim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udents fill out a self-assessment scoring guide and then turn it when they feel that it is ready to be research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6405" t="19791" r="17188" b="18753"/>
          <a:stretch/>
        </p:blipFill>
        <p:spPr>
          <a:xfrm>
            <a:off x="457200" y="533520"/>
            <a:ext cx="815328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uture phase of the projec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udents then finish the research at home over Thanksgiving break.  They return to school with a drawing or model of the animal exhibit.  Then the exhibit is presented to the clas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43:51Z</dcterms:created>
  <dc:creator>ITS</dc:creator>
  <dc:description/>
  <dc:language>en-US</dc:language>
  <cp:lastModifiedBy>ITS</cp:lastModifiedBy>
  <dcterms:modified xsi:type="dcterms:W3CDTF">2011-02-22T22:33:06Z</dcterms:modified>
  <cp:revision>3</cp:revision>
  <dc:subject/>
  <dc:title>Animal Adoption</dc:title>
</cp:coreProperties>
</file>